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FFC-BF72-4259-8B04-376342CE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863D-8AAE-4519-AD06-9DA66B52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25A5-1262-4E99-94E2-E6CC6423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4138-11E6-4637-93E4-E67525A7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1D72-C314-4318-900D-B41F310E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CC01-A545-43E4-8B7C-1A7D8F16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D7CA-99F3-429C-AB94-ADA47454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CE1C-229F-4F71-8268-B64171DE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D492-30CD-49A7-A7E1-F5A4157A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1A26-A016-454A-B080-3AE6FEB7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B782-132B-4CA9-843A-5CC31376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0C3F-2DF3-4AD1-88F2-E82B88CF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5DB9-B677-424E-A73C-578BE494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41CF-5AF9-4593-82E7-9F36B094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7919-0C7E-4FBE-90A5-59FAEFA8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0A48-BE5B-4265-8C39-1A812603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AEB2-4447-4595-B425-F43C8CE8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258F-7B0D-4AD0-B7B2-27A51938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F7D-D04B-4945-A943-9F29F7B9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13E-1B16-4C28-A20F-816AD5D4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43F-5367-414C-8B2B-45399DB1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82A-A8F4-46E4-9098-EDDDF78A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6224-9925-48F7-A9A0-87943EE2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637-B676-40F9-A5B3-B4410845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9A77-8244-4AE3-B6BE-421BE8600BB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7418-03A5-46CB-8BAD-331DA7FAA34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My Glossa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By Logan Barnet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lationships in da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Data that can relate to other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ally char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 chart that has un-complex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requency tab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 table that usually goes with a tally ch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ictograp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Graphs that show a picture of what the data is display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ar grap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 graph that shows bars which show how much there is of something through the height of each b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9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istogra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 graph that’s part of the bar graph family, used for continuous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rip grap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 graph in the form of a thick line which has different sectors for each piece of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ie grap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 graph in the shape of a circle/pie with different se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ot plo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Graphs that have dots representing were each piece of data go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em and leaf grap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 graph that has a trunk/stem and a bunch of numbers to the sides called ‘leaves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ust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 group/gathering/bunch of someth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E.g. A bunch of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catter plo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Graphs that show continuous data in the form of do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ox and whisker grap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Graphs to show medians, inter-quartile ranges and outl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ne graphs/time series da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most basic continuous graph showing a simple line to show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e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nother word for average or to show the average of some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edi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middle of some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E.g. data or a grap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most reoccurring number out of all/some of the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place in which all the data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quartile r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top and/or bottom 25% of all the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lic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Changes that you think should be made by looking at what you found out from your investig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5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clus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last statements about your investig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67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utli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data that is out with the other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eneralis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umming up all of the things about the investigation and making 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ren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Data that goes with other data in a patter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E.g. 1 2 3 4 5 6 7 8 9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ultivariate da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Data that has multiple variations as its outc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ariab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ings that might make the data vary or chan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ampl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 small part of data/number/gro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urvey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Gathering data through asking people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atterns in da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 pattern that happens when you get the same data more than o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21:34:37Z</dcterms:created>
  <dc:creator>logan barnett</dc:creator>
  <dc:description/>
  <dc:language>en-US</dc:language>
  <cp:lastModifiedBy>logan barnett</cp:lastModifiedBy>
  <dcterms:modified xsi:type="dcterms:W3CDTF">2010-05-28T00:12:09Z</dcterms:modified>
  <cp:revision>7</cp:revision>
  <dc:subject/>
  <dc:title>My Gloss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83841595</vt:r8>
  </property>
</Properties>
</file>